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A1080-23EC-461B-85A1-3E35187F4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06973-2E1A-44E6-97F4-6EF6CBC2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52908-B7D8-4163-9F43-584AE7ED8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78607-6D3E-401D-BF88-44C5B7500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05C5-0BCF-4A32-94B6-582330184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C91B-8C8C-4AF1-B107-37B9D94F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DD5F-0429-451B-A5F4-DF38FCC4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E27D-22D0-47DF-989D-0E893E84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2F6B-A5E8-406B-B586-BEDE7CE2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2C9A-AEC7-44E6-B708-85E68CD6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F2F2-93BC-49E1-B650-A284ABC1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F2F64-4F78-41FE-A111-9A253253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783A-0B4B-44D8-8AF8-77060F37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3B75-BCA1-47C2-AEF8-BABD003B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723F-B675-484C-B098-5B2553B0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9B8C-D125-43A1-AF0B-CA7489B6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6E5D-1BEC-410A-83D1-DCE6065F9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28CCC-6454-4116-B57B-0FA2C4AE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7BD08-C801-4198-AC2D-4F1C3804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AD80A-9696-4471-8D90-AD6BDFCC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E958D-73FF-41F0-BF70-61D0F93A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9B039-8610-4D6F-A3C5-9522E4CE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6AB24-396C-4880-B80A-3095E649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EE1BC-8C78-4F4A-BA59-74A6569E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C83D-CD78-4E98-96B5-FD30D31932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E4FB-C15A-448B-8B0C-C8CF10EFCC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Permuta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polygraphic cipher was developed by the mathematician Lester Hill in 1929 - called the Hill Ciph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kes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cessive plaintext letters and substitutes for them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iphertext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E4C73-4B1B-436D-8494-4727AFFD5F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4T01:33:02Z</dcterms:modified>
  <cp:revision>67</cp:revision>
  <dc:subject/>
  <dc:title>CAP Cryptographic Analysis Program</dc:title>
</cp:coreProperties>
</file>